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1AB1-64BE-42E7-936C-58A515D7B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0DB3-DDE6-4E26-83B7-720E5237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70CD-51FD-4211-9BC0-BFEF22024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292F-FB34-4182-8A6F-21B62C6D8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AB2A-3FC2-4C2E-8C7F-D5014B35E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62C8-2B51-4EE1-99F1-CA7059FC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98F4-A7F3-40B1-8FC3-638FBD6E2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E8B2-419E-4EB2-9B0E-8F4F30608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5497-1271-4411-A56D-1EAD413E9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0F7F-9B71-4E6D-A383-0B58A7DBB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63FF-47B6-4070-AC3A-EB0F47774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730A-11F7-48D4-953A-63978A29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66258-0304-4089-8DE7-EA81BB1881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20880" y="990720"/>
            <a:ext cx="1434960" cy="120636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996840" y="2209680"/>
            <a:ext cx="1295640" cy="276480"/>
            <a:chOff x="996840" y="2209680"/>
            <a:chExt cx="1295640" cy="276480"/>
          </a:xfrm>
        </p:grpSpPr>
        <p:sp>
          <p:nvSpPr>
            <p:cNvPr id="43" name=""/>
            <p:cNvSpPr/>
            <p:nvPr/>
          </p:nvSpPr>
          <p:spPr>
            <a:xfrm>
              <a:off x="996840" y="220968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03560" y="2209680"/>
              <a:ext cx="604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W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535320" y="1066680"/>
            <a:ext cx="383400" cy="1067040"/>
            <a:chOff x="535320" y="1066680"/>
            <a:chExt cx="383400" cy="1067040"/>
          </a:xfrm>
        </p:grpSpPr>
        <p:sp>
          <p:nvSpPr>
            <p:cNvPr id="46" name=""/>
            <p:cNvSpPr/>
            <p:nvPr/>
          </p:nvSpPr>
          <p:spPr>
            <a:xfrm>
              <a:off x="866880" y="1066680"/>
              <a:ext cx="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35320" y="1395360"/>
              <a:ext cx="383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1690920" y="685800"/>
            <a:ext cx="790200" cy="304920"/>
            <a:chOff x="1690920" y="685800"/>
            <a:chExt cx="790200" cy="304920"/>
          </a:xfrm>
        </p:grpSpPr>
        <p:sp>
          <p:nvSpPr>
            <p:cNvPr id="49" name=""/>
            <p:cNvSpPr/>
            <p:nvPr/>
          </p:nvSpPr>
          <p:spPr>
            <a:xfrm>
              <a:off x="1690920" y="68580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R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1884240" y="985680"/>
              <a:ext cx="4017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770040" y="685800"/>
            <a:ext cx="790200" cy="304920"/>
            <a:chOff x="770040" y="685800"/>
            <a:chExt cx="790200" cy="304920"/>
          </a:xfrm>
        </p:grpSpPr>
        <p:sp>
          <p:nvSpPr>
            <p:cNvPr id="52" name=""/>
            <p:cNvSpPr/>
            <p:nvPr/>
          </p:nvSpPr>
          <p:spPr>
            <a:xfrm>
              <a:off x="770040" y="68580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R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63360" y="985680"/>
              <a:ext cx="401760" cy="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124080" y="609480"/>
            <a:ext cx="1105200" cy="111780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4421880" y="152280"/>
            <a:ext cx="4568040" cy="2578320"/>
            <a:chOff x="4421880" y="152280"/>
            <a:chExt cx="4568040" cy="2578320"/>
          </a:xfrm>
        </p:grpSpPr>
        <p:grpSp>
          <p:nvGrpSpPr>
            <p:cNvPr id="56" name=""/>
            <p:cNvGrpSpPr/>
            <p:nvPr/>
          </p:nvGrpSpPr>
          <p:grpSpPr>
            <a:xfrm>
              <a:off x="4421880" y="739800"/>
              <a:ext cx="514800" cy="1693440"/>
              <a:chOff x="4421880" y="739800"/>
              <a:chExt cx="514800" cy="1693440"/>
            </a:xfrm>
          </p:grpSpPr>
          <p:sp>
            <p:nvSpPr>
              <p:cNvPr id="57" name=""/>
              <p:cNvSpPr/>
              <p:nvPr/>
            </p:nvSpPr>
            <p:spPr>
              <a:xfrm>
                <a:off x="4936680" y="739800"/>
                <a:ext cx="0" cy="169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421880" y="1301760"/>
                <a:ext cx="349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5410080" y="152280"/>
              <a:ext cx="2839320" cy="276480"/>
              <a:chOff x="5410080" y="152280"/>
              <a:chExt cx="2839320" cy="276480"/>
            </a:xfrm>
          </p:grpSpPr>
          <p:sp>
            <p:nvSpPr>
              <p:cNvPr id="60" name=""/>
              <p:cNvSpPr/>
              <p:nvPr/>
            </p:nvSpPr>
            <p:spPr>
              <a:xfrm>
                <a:off x="5410080" y="152280"/>
                <a:ext cx="283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6078960" y="152280"/>
                <a:ext cx="561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W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5127120" y="297000"/>
              <a:ext cx="923760" cy="442440"/>
              <a:chOff x="5127120" y="297000"/>
              <a:chExt cx="923760" cy="442440"/>
            </a:xfrm>
          </p:grpSpPr>
          <p:sp>
            <p:nvSpPr>
              <p:cNvPr id="63" name=""/>
              <p:cNvSpPr/>
              <p:nvPr/>
            </p:nvSpPr>
            <p:spPr>
              <a:xfrm>
                <a:off x="5127120" y="297000"/>
                <a:ext cx="8967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RGI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5427360" y="731520"/>
                <a:ext cx="62352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7307640" y="297000"/>
              <a:ext cx="932040" cy="442440"/>
              <a:chOff x="7307640" y="297000"/>
              <a:chExt cx="932040" cy="442440"/>
            </a:xfrm>
          </p:grpSpPr>
          <p:sp>
            <p:nvSpPr>
              <p:cNvPr id="66" name=""/>
              <p:cNvSpPr/>
              <p:nvPr/>
            </p:nvSpPr>
            <p:spPr>
              <a:xfrm>
                <a:off x="7307640" y="297000"/>
                <a:ext cx="9320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RGI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7606440" y="731520"/>
                <a:ext cx="62244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7621920" y="1189080"/>
              <a:ext cx="12535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99"/>
                  </a:solidFill>
                  <a:latin typeface="Arial"/>
                </a:rPr>
                <a:t>(WD-MARGIN, HT/3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8040" y="1722600"/>
              <a:ext cx="1361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99"/>
                  </a:solidFill>
                  <a:latin typeface="Arial"/>
                </a:rPr>
                <a:t>(WD-MARGIN, 2*HT/3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097680" y="503280"/>
              <a:ext cx="840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99"/>
                  </a:solidFill>
                  <a:latin typeface="Arial"/>
                </a:rPr>
                <a:t>(MARGIN, 1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40840" y="2484360"/>
              <a:ext cx="1073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99"/>
                  </a:solidFill>
                  <a:latin typeface="Arial"/>
                </a:rPr>
                <a:t>(MARGIN, HT--1</a:t>
              </a: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" name=""/>
            <p:cNvGrpSpPr/>
            <p:nvPr/>
          </p:nvGrpSpPr>
          <p:grpSpPr>
            <a:xfrm>
              <a:off x="6119640" y="739800"/>
              <a:ext cx="1595880" cy="1752840"/>
              <a:chOff x="6119640" y="739800"/>
              <a:chExt cx="1595880" cy="1752840"/>
            </a:xfrm>
          </p:grpSpPr>
          <p:grpSp>
            <p:nvGrpSpPr>
              <p:cNvPr id="73" name=""/>
              <p:cNvGrpSpPr/>
              <p:nvPr/>
            </p:nvGrpSpPr>
            <p:grpSpPr>
              <a:xfrm>
                <a:off x="6119640" y="739800"/>
                <a:ext cx="1595880" cy="1752840"/>
                <a:chOff x="6119640" y="739800"/>
                <a:chExt cx="1595880" cy="1752840"/>
              </a:xfrm>
            </p:grpSpPr>
            <p:grpSp>
              <p:nvGrpSpPr>
                <p:cNvPr id="74" name=""/>
                <p:cNvGrpSpPr/>
                <p:nvPr/>
              </p:nvGrpSpPr>
              <p:grpSpPr>
                <a:xfrm>
                  <a:off x="6119640" y="739800"/>
                  <a:ext cx="1595880" cy="1752840"/>
                  <a:chOff x="6119640" y="739800"/>
                  <a:chExt cx="1595880" cy="1752840"/>
                </a:xfrm>
              </p:grpSpPr>
              <p:grpSp>
                <p:nvGrpSpPr>
                  <p:cNvPr id="75" name=""/>
                  <p:cNvGrpSpPr/>
                  <p:nvPr/>
                </p:nvGrpSpPr>
                <p:grpSpPr>
                  <a:xfrm>
                    <a:off x="6119640" y="739800"/>
                    <a:ext cx="1595880" cy="1752840"/>
                    <a:chOff x="6119640" y="739800"/>
                    <a:chExt cx="1595880" cy="1752840"/>
                  </a:xfrm>
                </p:grpSpPr>
                <p:pic>
                  <p:nvPicPr>
                    <p:cNvPr id="76" name="" descr=""/>
                    <p:cNvPicPr/>
                    <p:nvPr/>
                  </p:nvPicPr>
                  <p:blipFill>
                    <a:blip r:embed="rId3"/>
                    <a:srcRect l="6910" t="0" r="0" b="0"/>
                    <a:stretch/>
                  </p:blipFill>
                  <p:spPr>
                    <a:xfrm>
                      <a:off x="6119640" y="739800"/>
                      <a:ext cx="1595880" cy="1752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77" name=""/>
                    <p:cNvSpPr/>
                    <p:nvPr/>
                  </p:nvSpPr>
                  <p:spPr>
                    <a:xfrm>
                      <a:off x="6119640" y="1343880"/>
                      <a:ext cx="322560" cy="168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8" name=""/>
                  <p:cNvSpPr/>
                  <p:nvPr/>
                </p:nvSpPr>
                <p:spPr>
                  <a:xfrm flipH="1">
                    <a:off x="6442200" y="1510200"/>
                    <a:ext cx="2160" cy="208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9" name=""/>
                <p:cNvSpPr/>
                <p:nvPr/>
              </p:nvSpPr>
              <p:spPr>
                <a:xfrm>
                  <a:off x="6119640" y="2311560"/>
                  <a:ext cx="0" cy="120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" name=""/>
              <p:cNvSpPr/>
              <p:nvPr/>
            </p:nvSpPr>
            <p:spPr>
              <a:xfrm>
                <a:off x="6474600" y="1344240"/>
                <a:ext cx="946080" cy="605160"/>
              </a:xfrm>
              <a:prstGeom prst="rect">
                <a:avLst/>
              </a:prstGeom>
              <a:solidFill>
                <a:srgbClr val="ffff64"/>
              </a:solidFill>
              <a:ln w="93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" name=""/>
            <p:cNvSpPr/>
            <p:nvPr/>
          </p:nvSpPr>
          <p:spPr>
            <a:xfrm>
              <a:off x="4954680" y="1798560"/>
              <a:ext cx="1137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99"/>
                  </a:solidFill>
                  <a:latin typeface="Arial"/>
                </a:rPr>
                <a:t>(MARGIN, 2*HT/3</a:t>
              </a: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31000" y="1265400"/>
              <a:ext cx="1024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99"/>
                  </a:solidFill>
                  <a:latin typeface="Arial"/>
                </a:rPr>
                <a:t>(MARGIN, HT/3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8560" y="1722600"/>
              <a:ext cx="90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99"/>
                  </a:solidFill>
                  <a:latin typeface="Arial"/>
                </a:rPr>
                <a:t>(MARGIN+15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333399"/>
                  </a:solidFill>
                  <a:latin typeface="ヒラギノ角ゴ ProN W3"/>
                </a:rPr>
                <a:t>_x0004_</a:t>
              </a:r>
              <a:r>
                <a:rPr b="0" lang="en-US" sz="900" spc="-1" strike="noStrike">
                  <a:solidFill>
                    <a:srgbClr val="333399"/>
                  </a:solidFill>
                  <a:latin typeface="Arial"/>
                </a:rPr>
                <a:t>5*HT/9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478560" y="1265400"/>
              <a:ext cx="90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99"/>
                  </a:solidFill>
                  <a:latin typeface="Arial"/>
                </a:rPr>
                <a:t>(MARGIN+15,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99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333399"/>
                  </a:solidFill>
                  <a:latin typeface="Arial"/>
                </a:rPr>
                <a:t>4*HT/9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17960" y="3306600"/>
            <a:ext cx="7577640" cy="3249000"/>
            <a:chOff x="417960" y="3306600"/>
            <a:chExt cx="7577640" cy="3249000"/>
          </a:xfrm>
        </p:grpSpPr>
        <p:grpSp>
          <p:nvGrpSpPr>
            <p:cNvPr id="86" name=""/>
            <p:cNvGrpSpPr/>
            <p:nvPr/>
          </p:nvGrpSpPr>
          <p:grpSpPr>
            <a:xfrm>
              <a:off x="417960" y="3306600"/>
              <a:ext cx="7577640" cy="3249000"/>
              <a:chOff x="417960" y="3306600"/>
              <a:chExt cx="7577640" cy="3249000"/>
            </a:xfrm>
          </p:grpSpPr>
          <p:pic>
            <p:nvPicPr>
              <p:cNvPr id="8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754360" y="3657600"/>
                <a:ext cx="3276720" cy="222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" name=""/>
              <p:cNvSpPr/>
              <p:nvPr/>
            </p:nvSpPr>
            <p:spPr>
              <a:xfrm>
                <a:off x="4049640" y="3429000"/>
                <a:ext cx="196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PinDesc(2, WD/2+3, HT/6+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" name=""/>
              <p:cNvGrpSpPr/>
              <p:nvPr/>
            </p:nvGrpSpPr>
            <p:grpSpPr>
              <a:xfrm>
                <a:off x="2754360" y="3306600"/>
                <a:ext cx="3228120" cy="276480"/>
                <a:chOff x="2754360" y="3306600"/>
                <a:chExt cx="3228120" cy="2764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2754360" y="3306600"/>
                  <a:ext cx="3228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3516120" y="3306600"/>
                  <a:ext cx="54180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WD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417960" y="3809880"/>
                <a:ext cx="454680" cy="1904760"/>
                <a:chOff x="417960" y="3809880"/>
                <a:chExt cx="454680" cy="190476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872640" y="3809880"/>
                  <a:ext cx="0" cy="190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17960" y="4442040"/>
                  <a:ext cx="349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H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754360" y="3543480"/>
                <a:ext cx="1676520" cy="231120"/>
                <a:chOff x="2754360" y="3543480"/>
                <a:chExt cx="1676520" cy="2311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754360" y="3733920"/>
                  <a:ext cx="1676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3148560" y="3543480"/>
                  <a:ext cx="726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   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WD/2+3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" name=""/>
              <p:cNvSpPr/>
              <p:nvPr/>
            </p:nvSpPr>
            <p:spPr>
              <a:xfrm>
                <a:off x="4535640" y="380988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583880" y="3886200"/>
                <a:ext cx="560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T/6+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036120" y="4419720"/>
                <a:ext cx="1870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PinDesc(5, HT/3+5, MARGIN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421240" y="3809880"/>
                <a:ext cx="0" cy="76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418360" y="3962520"/>
                <a:ext cx="56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T/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ヒラギノ角ゴ ProN W3"/>
                  </a:rPr>
                  <a:t>_x0004__x0004_3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+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036480" y="4937040"/>
                <a:ext cx="1959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PinDesc(6, 2*HT/3-5, MARGIN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954760" y="380988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954760" y="4114800"/>
                <a:ext cx="685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2*HT/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ヒラギノ角ゴ ProN W3"/>
                  </a:rPr>
                  <a:t>_x0004__x0004_3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-5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5192640" y="5257800"/>
                <a:ext cx="830880" cy="231120"/>
                <a:chOff x="5192640" y="5257800"/>
                <a:chExt cx="830880" cy="23112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5192640" y="5448240"/>
                  <a:ext cx="825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5387040" y="5257800"/>
                  <a:ext cx="636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MARGI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"/>
              <p:cNvGrpSpPr/>
              <p:nvPr/>
            </p:nvGrpSpPr>
            <p:grpSpPr>
              <a:xfrm>
                <a:off x="2735280" y="4648320"/>
                <a:ext cx="830880" cy="231120"/>
                <a:chOff x="2735280" y="4648320"/>
                <a:chExt cx="830880" cy="23112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2735280" y="4838760"/>
                  <a:ext cx="8254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2929680" y="4648320"/>
                  <a:ext cx="6364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MARGI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" name=""/>
              <p:cNvSpPr/>
              <p:nvPr/>
            </p:nvSpPr>
            <p:spPr>
              <a:xfrm>
                <a:off x="953640" y="4114800"/>
                <a:ext cx="1727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PinDesc(0, HT/6, MARGIN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701800" y="380988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680920" y="3886200"/>
                <a:ext cx="4291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T/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78400" y="5318280"/>
                <a:ext cx="18464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PinDesc(1, 5*HT/6, MARGIN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597040" y="3809880"/>
                <a:ext cx="0" cy="152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084040" y="4724280"/>
                <a:ext cx="537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5*HT/6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2701800" y="5821200"/>
                <a:ext cx="1545120" cy="239400"/>
                <a:chOff x="2701800" y="5821200"/>
                <a:chExt cx="1545120" cy="2394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701800" y="5821200"/>
                  <a:ext cx="15429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721960" y="5829480"/>
                  <a:ext cx="1524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25+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3*(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WD-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(2*MARGIN))/5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"/>
              <p:cNvSpPr/>
              <p:nvPr/>
            </p:nvSpPr>
            <p:spPr>
              <a:xfrm>
                <a:off x="1531080" y="6004080"/>
                <a:ext cx="2850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PinDesc(3, 25+3*(WD-(2*MARGIN))/5, HT/6+2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226040" y="5410080"/>
                <a:ext cx="0" cy="33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226760" y="5715000"/>
                <a:ext cx="560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T/6+2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440" y="5943600"/>
                <a:ext cx="28508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333399"/>
                    </a:solidFill>
                    <a:latin typeface="Arial"/>
                  </a:rPr>
                  <a:t>PinDesc(4, 25+4*(WD-(2*MARGIN))/5, HT/6+7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"/>
              <p:cNvGrpSpPr/>
              <p:nvPr/>
            </p:nvGrpSpPr>
            <p:grpSpPr>
              <a:xfrm>
                <a:off x="2701800" y="6316560"/>
                <a:ext cx="1981080" cy="239040"/>
                <a:chOff x="2701800" y="6316560"/>
                <a:chExt cx="1981080" cy="23904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701800" y="6316560"/>
                  <a:ext cx="1981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727000" y="6324480"/>
                  <a:ext cx="1524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25+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4*(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WD-</a:t>
                  </a: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(2*MARGIN))/5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" name=""/>
              <p:cNvSpPr/>
              <p:nvPr/>
            </p:nvSpPr>
            <p:spPr>
              <a:xfrm>
                <a:off x="4759200" y="52578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759920" y="5715000"/>
                <a:ext cx="5601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HT/6+7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666880" y="5410080"/>
              <a:ext cx="838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</a:rPr>
                <a:t>B0-B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230400" y="304920"/>
            <a:ext cx="4266720" cy="2455920"/>
            <a:chOff x="230400" y="304920"/>
            <a:chExt cx="4266720" cy="2455920"/>
          </a:xfrm>
        </p:grpSpPr>
        <p:sp>
          <p:nvSpPr>
            <p:cNvPr id="132" name=""/>
            <p:cNvSpPr/>
            <p:nvPr/>
          </p:nvSpPr>
          <p:spPr>
            <a:xfrm>
              <a:off x="1295280" y="762120"/>
              <a:ext cx="2057400" cy="1828800"/>
            </a:xfrm>
            <a:prstGeom prst="diamond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5800" y="60984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27960" y="30492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9480" y="76212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30400" y="1219320"/>
              <a:ext cx="34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66880" y="1067040"/>
              <a:ext cx="7632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761920" y="2057400"/>
              <a:ext cx="1522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1733400" y="2057400"/>
              <a:ext cx="15264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1905120" y="1066680"/>
              <a:ext cx="7596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364840" y="669960"/>
              <a:ext cx="72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(WD/2, 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127680" y="1828800"/>
              <a:ext cx="1369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(WD-MARGIN, HT/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8520" y="2514600"/>
              <a:ext cx="9334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(WD/2, HT-1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1640" y="1143000"/>
              <a:ext cx="1125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(MARGIN, </a:t>
              </a:r>
              <a:r>
                <a:rPr b="0" lang="en-US" sz="1000" spc="-1" strike="noStrike">
                  <a:solidFill>
                    <a:srgbClr val="333399"/>
                  </a:solidFill>
                  <a:latin typeface="ヒラギノ角ゴ ProN W3"/>
                </a:rPr>
                <a:t>_x0004__x0004__x0004__x0004_HT/2</a:t>
              </a: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3355200" y="1447920"/>
              <a:ext cx="686520" cy="246240"/>
              <a:chOff x="3355200" y="1447920"/>
              <a:chExt cx="686520" cy="246240"/>
            </a:xfrm>
          </p:grpSpPr>
          <p:sp>
            <p:nvSpPr>
              <p:cNvPr id="146" name=""/>
              <p:cNvSpPr/>
              <p:nvPr/>
            </p:nvSpPr>
            <p:spPr>
              <a:xfrm>
                <a:off x="3358800" y="169236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355200" y="1447920"/>
                <a:ext cx="686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RGI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659880" y="1447920"/>
              <a:ext cx="686520" cy="246240"/>
              <a:chOff x="659880" y="1447920"/>
              <a:chExt cx="686520" cy="246240"/>
            </a:xfrm>
          </p:grpSpPr>
          <p:sp>
            <p:nvSpPr>
              <p:cNvPr id="149" name=""/>
              <p:cNvSpPr/>
              <p:nvPr/>
            </p:nvSpPr>
            <p:spPr>
              <a:xfrm>
                <a:off x="663480" y="169236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59880" y="1447920"/>
                <a:ext cx="686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RGI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2286000" y="73368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05160" y="16383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266840" y="16383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95360" y="254340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4497840" y="2133720"/>
            <a:ext cx="112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(MARGIN, </a:t>
            </a:r>
            <a:r>
              <a:rPr b="0" lang="en-US" sz="1000" spc="-1" strike="noStrike">
                <a:solidFill>
                  <a:srgbClr val="333399"/>
                </a:solidFill>
                <a:latin typeface="ヒラギノ角ゴ ProN W3"/>
              </a:rPr>
              <a:t>_x0004__x0004__x0004__x0004_HT/2</a:t>
            </a:r>
            <a:r>
              <a:rPr b="0" lang="en-US" sz="10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669040" y="3505320"/>
            <a:ext cx="5964480" cy="2897280"/>
            <a:chOff x="2669040" y="3505320"/>
            <a:chExt cx="5964480" cy="2897280"/>
          </a:xfrm>
        </p:grpSpPr>
        <p:sp>
          <p:nvSpPr>
            <p:cNvPr id="157" name=""/>
            <p:cNvSpPr/>
            <p:nvPr/>
          </p:nvSpPr>
          <p:spPr>
            <a:xfrm>
              <a:off x="3733920" y="3809880"/>
              <a:ext cx="2057400" cy="1828800"/>
            </a:xfrm>
            <a:prstGeom prst="diamond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124080" y="5791320"/>
              <a:ext cx="327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66240" y="5791320"/>
              <a:ext cx="39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048120" y="380988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669040" y="4267080"/>
              <a:ext cx="349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58480" y="5105520"/>
              <a:ext cx="207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333399"/>
                  </a:solidFill>
                  <a:latin typeface="Arial"/>
                </a:rPr>
                <a:t>pinDesc(1, 2*HT/3, MARGIN+z/2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5793840" y="4495680"/>
              <a:ext cx="686520" cy="246240"/>
              <a:chOff x="5793840" y="4495680"/>
              <a:chExt cx="686520" cy="246240"/>
            </a:xfrm>
          </p:grpSpPr>
          <p:sp>
            <p:nvSpPr>
              <p:cNvPr id="164" name=""/>
              <p:cNvSpPr/>
              <p:nvPr/>
            </p:nvSpPr>
            <p:spPr>
              <a:xfrm>
                <a:off x="5797440" y="474012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793840" y="4495680"/>
                <a:ext cx="686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RGI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3098160" y="4495680"/>
              <a:ext cx="686520" cy="246240"/>
              <a:chOff x="3098160" y="4495680"/>
              <a:chExt cx="686520" cy="246240"/>
            </a:xfrm>
          </p:grpSpPr>
          <p:sp>
            <p:nvSpPr>
              <p:cNvPr id="167" name=""/>
              <p:cNvSpPr/>
              <p:nvPr/>
            </p:nvSpPr>
            <p:spPr>
              <a:xfrm>
                <a:off x="3101760" y="4740120"/>
                <a:ext cx="60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098160" y="4495680"/>
                <a:ext cx="686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RGI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4191120" y="3809880"/>
              <a:ext cx="0" cy="514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24080" y="388620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23000" y="3505320"/>
              <a:ext cx="1821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333399"/>
                  </a:solidFill>
                  <a:latin typeface="Arial"/>
                </a:rPr>
                <a:t>pinDesc(0, MARGIN+z/2, HT/3)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126960" y="3886200"/>
              <a:ext cx="929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RGIN+z/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267080" y="38098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267440" y="3733920"/>
              <a:ext cx="45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T/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257800" y="5181480"/>
              <a:ext cx="1143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77120" y="38098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79640" y="4267080"/>
              <a:ext cx="573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*HT/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16120" y="5394240"/>
              <a:ext cx="929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RGIN+z/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257800" y="533412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25840" y="6156360"/>
              <a:ext cx="1317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z = </a:t>
              </a:r>
              <a:r>
                <a:rPr b="0" lang="en-US" sz="1000" spc="-1" strike="noStrike">
                  <a:solidFill>
                    <a:srgbClr val="000000"/>
                  </a:solidFill>
                  <a:latin typeface="ヒラギノ角ゴ ProN W3"/>
                </a:rPr>
                <a:t>_x0004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WD/2</a:t>
              </a:r>
              <a:r>
                <a:rPr b="0" lang="en-US" sz="1000" spc="-1" strike="noStrike">
                  <a:solidFill>
                    <a:srgbClr val="000000"/>
                  </a:solidFill>
                  <a:latin typeface="ヒラギノ角ゴ ProN W3"/>
                </a:rPr>
                <a:t>_x0004_ -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RG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57600" y="60958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6T15:38:38Z</dcterms:created>
  <dc:creator>Richard Salter</dc:creator>
  <dc:description/>
  <dc:language>en-US</dc:language>
  <cp:lastModifiedBy>Richard Salter</cp:lastModifiedBy>
  <dcterms:modified xsi:type="dcterms:W3CDTF">2009-05-26T23:07:42Z</dcterms:modified>
  <cp:revision>9</cp:revision>
  <dc:subject/>
  <dc:title>PowerPoint Presentation</dc:title>
</cp:coreProperties>
</file>